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8.png" ContentType="image/png"/>
  <Override PartName="/ppt/media/image8.jpeg" ContentType="image/jpeg"/>
  <Override PartName="/ppt/media/image27.jpeg" ContentType="image/jpeg"/>
  <Override PartName="/ppt/media/image10.png" ContentType="image/png"/>
  <Override PartName="/ppt/media/image13.png" ContentType="image/png"/>
  <Override PartName="/ppt/media/image12.png" ContentType="image/png"/>
  <Override PartName="/ppt/media/image7.wmf" ContentType="image/x-wmf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4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5.png" ContentType="image/png"/>
  <Override PartName="/ppt/media/image5.jpeg" ContentType="image/jpeg"/>
  <Override PartName="/ppt/media/image2.png" ContentType="image/pn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660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660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47AA68C-8EA5-4F9D-A9E4-1E8654CF1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6702A04-C941-46B7-AAB3-4CFDA40EE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of the head leader of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8738108-78C6-46D1-B524-BC28A6E56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of one of the points of interest for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43F4AC9-DAF6-45B8-ADE9-BAEEA40F0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sert a map of your countr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1CD38B7-747C-4506-A1FA-32CDA7548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sert a picture of one of the geographic features of your countr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A0AD325-4E2B-4204-94B2-7E0759151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illustrating a season in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22CE314-2DA8-4AC3-872B-4CD304A8A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of an animal and or plant found in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B819883-DC89-4C69-B0F3-3F7529206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illustrating a custom or tradition he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FCDA-B4BA-4B95-B032-854D1317B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F614-B001-4FDD-AE2A-A4016CB2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3D60-515C-4689-B248-592975AC2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824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42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824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3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EA7D-1E59-4A6C-A16F-A7AE00115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7FD3-AF30-44EB-98F3-C8D9FD7C0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C8B2-3203-45F2-AA04-1B1A09C3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54EA-204B-4299-8BB6-7727233D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CA5E-7AC7-436E-9C55-B0438434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5DA3-B691-422A-B1E3-1A588771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42560" y="225000"/>
            <a:ext cx="77058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265B-D3CB-4394-91BE-2BECA71E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9976-262C-4460-B780-D3F9B3CE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F034-155D-48BF-B43A-6889E785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2D50-2CCC-4D28-A12C-FD7FBD30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66F3-D5E7-4208-89B1-0C5992C6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7FAC-37BB-456A-AB9A-AF6253DF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8AFA-9AF1-4F66-BADF-CCAFCF85C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824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3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42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824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3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4318-B8F1-484C-8B5D-AE6663DB1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5801-6157-4D94-953E-BF6EE97F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0975-680F-4C97-AAE1-80E28BDF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EF68-BDAD-4254-9255-3FC9DA06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225000"/>
            <a:ext cx="77058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F952-21F9-4178-874F-AB060DD1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512F-9FB1-4CCE-BD72-46BA766D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9F76-566A-488C-B6FF-FDCBE268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34BB-9E58-4E11-9524-1EA8AC9C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42560" y="6308640"/>
            <a:ext cx="18385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53880" y="6308640"/>
            <a:ext cx="363708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43600" y="6308640"/>
            <a:ext cx="19051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E8E0-E72D-4205-95C9-EADC79FBE18E}" type="slidenum"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225440" y="6200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03720" y="6200640"/>
            <a:ext cx="363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92720" y="62006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26AB-96E3-4FE2-BE28-55AFAAC9E6DD}" type="slidenum"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19280" y="1828800"/>
            <a:ext cx="5343480" cy="23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Grade 6: Standards, Instruction, and Assessment Overview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90920" y="4184280"/>
            <a:ext cx="63244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6-weeks Grading Perio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ssion WIKI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www.6th-socialstudies-2ndsixweeks.wikispaces.com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urriculum Maps were created to…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6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Address the content you are required to cov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Address the recommendations given by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  <a:ea typeface="GungsuhChe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 grade teache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Capture the big picture in the daunting task of world geography cover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Provide  unit and topical breakdowns of the cont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Provide student friendly learning targe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Address deficiencies found in the 566 page Curriculum Audi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257800" y="32004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urriculum Map Featur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19" name="Content Placeholder 4" descr="1.PNG"/>
          <p:cNvPicPr/>
          <p:nvPr/>
        </p:nvPicPr>
        <p:blipFill>
          <a:blip r:embed="rId1"/>
          <a:stretch/>
        </p:blipFill>
        <p:spPr>
          <a:xfrm>
            <a:off x="380880" y="1428840"/>
            <a:ext cx="845820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Learning Target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Fewer Learning Target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MOST topics have 3 or less learning target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Learning Targets are what students need to know at the end of the topic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lnSpc>
                <a:spcPts val="1998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For short topics, the learning target is a daily targe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lnSpc>
                <a:spcPts val="1998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For longer topics, you will need to create supporting /daily  learning targets to help students reach the learning target for the topic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22" name="Picture 3" descr="C:\Users\sburns1\AppData\Local\Microsoft\Windows\Temporary Internet Files\Content.IE5\S9JQCI0V\MC900383560[1].wmf"/>
          <p:cNvPicPr/>
          <p:nvPr/>
        </p:nvPicPr>
        <p:blipFill>
          <a:blip r:embed="rId1"/>
          <a:stretch/>
        </p:blipFill>
        <p:spPr>
          <a:xfrm rot="21008400">
            <a:off x="6019920" y="1219320"/>
            <a:ext cx="1295280" cy="1831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C:\Users\sburns1\AppData\Local\Microsoft\Windows\Temporary Internet Files\Content.IE5\NTLGZ3YI\MC900382592[1].jpg"/>
          <p:cNvPicPr/>
          <p:nvPr/>
        </p:nvPicPr>
        <p:blipFill>
          <a:blip r:embed="rId2"/>
          <a:stretch/>
        </p:blipFill>
        <p:spPr>
          <a:xfrm>
            <a:off x="6095880" y="36576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uggested Resourc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Most of the suggested resources come from TCI programs, Discovery Education, and online websites.  ALL teachers have access to these resourc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It is encouraged that you look at these resources as you are planning each unit/topic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Textbooks are resources ONLY.  Lessons should be created based on learning targets and standards NOT what chapter is next in the book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INSTRUC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Book-In-An-Hour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e Book-in-an-Hour technique is a modification of jig-saw readings.  In this activity an entire novel can be read in as little as one hour.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30" name="Content Placeholder 4" descr="red-glass1.jpg"/>
          <p:cNvPicPr/>
          <p:nvPr/>
        </p:nvPicPr>
        <p:blipFill>
          <a:blip r:embed="rId1"/>
          <a:stretch/>
        </p:blipFill>
        <p:spPr>
          <a:xfrm>
            <a:off x="5238720" y="1305000"/>
            <a:ext cx="32432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scribed by Cyrus F. Smith, Jr. in 1979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ccording Smith (1979) and Childrey (1980) this method is beneficial for a number of reasons including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otivating students to read an entire boo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ncouraging reluctant readers by limiting read aloud requireme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an assign chapters of varying sizes to students based on their reading abilit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llows students to be introduced to a variety of literature in a limited tim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ncourages summary skil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Benefit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42560" y="1304640"/>
            <a:ext cx="7705800" cy="55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Opportunity to incorporate some of the available historical fiction and non-fiction work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ay to bring in multiple perspectiv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Encourages literacy skills such as identifying main idea and detail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Requires listening as well as reading skill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Encourages writing skill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t does not take three weeks to read a no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Addresses ELA Reading and Writing Standard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mbria"/>
              </a:rPr>
              <a:t>Step 1: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Select an appropriate no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mbria"/>
              </a:rPr>
              <a:t>Step 2: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Purchase 2 copies of the novel (paperback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mbria"/>
              </a:rPr>
              <a:t>Step 3:</a:t>
            </a:r>
            <a:r>
              <a:rPr b="0" lang="en-US" sz="2400" spc="-1" strike="noStrike">
                <a:solidFill>
                  <a:srgbClr val="c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ear the Book into section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mbria"/>
              </a:rPr>
              <a:t>Step 4: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mplete an appropriate pre-reading activit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mbria"/>
              </a:rPr>
              <a:t>Step 5:</a:t>
            </a:r>
            <a:r>
              <a:rPr b="0" lang="en-US" sz="2400" spc="-1" strike="noStrike">
                <a:solidFill>
                  <a:srgbClr val="c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istribute Book in an Hour form and provide time for students to read their sections and complete the form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mbria"/>
              </a:rPr>
              <a:t>Step 6: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tudents Report on their sections. Through the course of the presentation of the novel, students will write a one-sentence summary for each presented sect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mbria"/>
              </a:rPr>
              <a:t>Step 7: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ave students complete an appropriate post-reading activit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38" name="Content Placeholder 3" descr="2.PNG"/>
          <p:cNvPicPr/>
          <p:nvPr/>
        </p:nvPicPr>
        <p:blipFill>
          <a:blip r:embed="rId1"/>
          <a:stretch/>
        </p:blipFill>
        <p:spPr>
          <a:xfrm>
            <a:off x="1219320" y="304920"/>
            <a:ext cx="67816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Geography Quot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4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God created war so that Americans would learn geography.”     Mark Twain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12480" indent="-312480">
              <a:spcBef>
                <a:spcPts val="4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12480" indent="-312480">
              <a:spcBef>
                <a:spcPts val="4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I get to go to overseas places, like Canada.”  Britney Spears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12480" indent="-312480">
              <a:spcBef>
                <a:spcPts val="4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12480" indent="-312480">
              <a:spcBef>
                <a:spcPts val="4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"New York is an ugly city, a dirty city. Its climate is a scandal, its politics are used to frighten children, its traffic is madness, its competition is murderous. But there is one thing about it - once you have lived in New York and it has become your home, no place else is good enough."     Megan McCafferty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12480" indent="-312480">
              <a:spcBef>
                <a:spcPts val="4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12480" indent="-312480">
              <a:spcBef>
                <a:spcPts val="4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"Everywhere's been where it is ever since it was first put there. It's called geography."   Terry Pratchett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12480" indent="-312480">
              <a:spcBef>
                <a:spcPts val="4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12480" indent="-312480">
              <a:spcBef>
                <a:spcPts val="4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"It is wonderful to be here in the great state of Chicago."  Dan Quayle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12480" indent="-312480">
              <a:spcBef>
                <a:spcPts val="4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Over the last 15 months, we’ve traveled to every corner of the United States. I’ve now been in 57 states? I think one left to go."  Barack Obam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40" name="Content Placeholder 3" descr="3.PNG"/>
          <p:cNvPicPr/>
          <p:nvPr/>
        </p:nvPicPr>
        <p:blipFill>
          <a:blip r:embed="rId1"/>
          <a:stretch/>
        </p:blipFill>
        <p:spPr>
          <a:xfrm>
            <a:off x="2057400" y="111240"/>
            <a:ext cx="525780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Before Reading Strategi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Quick Write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: ask students to predict what the story is about based on the title of the story and the pictures on the front &amp; back cover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Word Splash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: choose 8 to 15 words from the story and students write a paragraph using the words in which they predict what the story is abou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Anticipation Guid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43" name="Picture 3" descr="AG.PNG"/>
          <p:cNvPicPr/>
          <p:nvPr/>
        </p:nvPicPr>
        <p:blipFill>
          <a:blip r:embed="rId1"/>
          <a:stretch/>
        </p:blipFill>
        <p:spPr>
          <a:xfrm>
            <a:off x="1725480" y="3124080"/>
            <a:ext cx="74185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After Reading Strategi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Reflection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: Students make connections to what they are reading and their lives or the content they have been studying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Tableaux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: connects with visual and kinesthetic intelligences.  It generally takes the form of a frozen scene or pose that captures a physical, psychological or emotional relationship.  It helps students visually translate a variety of themes and ideas from the text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Primary Sources: Authenticate the novel by having students interact with primary sources based on the content of the book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RAFT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: Writing to one of the characters in the book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46" name="Picture 3" descr="RAFT.PNG"/>
          <p:cNvPicPr/>
          <p:nvPr/>
        </p:nvPicPr>
        <p:blipFill>
          <a:blip r:embed="rId1"/>
          <a:stretch/>
        </p:blipFill>
        <p:spPr>
          <a:xfrm>
            <a:off x="4038480" y="3659040"/>
            <a:ext cx="480060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Where can you find books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ational Council for Social Studies publishes “Notable Trade Books” annuall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ttp://www.socialstudies.org/resources/notabl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llaborate with your Library Media Speciali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CI Activit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Topic 7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:  South America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Standard: SS-06-4.4.4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Students will explain how individual and group perspectives impact the use of natural resources (e.g., urban development, recycling) in the present day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Learning Target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: I can explain how individual and group perspectives of how to use natural resources influence the political, social, and economic development of countries in South America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TCI Lesson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:  </a:t>
            </a:r>
            <a:r>
              <a:rPr b="0" i="1" lang="en-US" sz="1600" spc="-1" strike="noStrike">
                <a:solidFill>
                  <a:srgbClr val="000000"/>
                </a:solidFill>
                <a:latin typeface="Century Schoolbook"/>
              </a:rPr>
              <a:t>World Cultures Alive!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Rainforest Conference in Latin America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951440" y="1295280"/>
            <a:ext cx="36129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aps Tell A Stor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53" name="Content Placeholder 4" descr=""/>
          <p:cNvPicPr/>
          <p:nvPr/>
        </p:nvPicPr>
        <p:blipFill>
          <a:blip r:embed="rId1"/>
          <a:stretch/>
        </p:blipFill>
        <p:spPr>
          <a:xfrm>
            <a:off x="944640" y="1255680"/>
            <a:ext cx="780876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55" name="Content Placeholder 5" descr=""/>
          <p:cNvPicPr/>
          <p:nvPr/>
        </p:nvPicPr>
        <p:blipFill>
          <a:blip r:embed="rId1"/>
          <a:stretch/>
        </p:blipFill>
        <p:spPr>
          <a:xfrm>
            <a:off x="4968720" y="1285920"/>
            <a:ext cx="3851280" cy="4919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2"/>
          <a:stretch/>
        </p:blipFill>
        <p:spPr>
          <a:xfrm>
            <a:off x="990720" y="1103400"/>
            <a:ext cx="3824280" cy="52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58" name="Content Placeholder 3" descr=""/>
          <p:cNvPicPr/>
          <p:nvPr/>
        </p:nvPicPr>
        <p:blipFill>
          <a:blip r:embed="rId1"/>
          <a:stretch/>
        </p:blipFill>
        <p:spPr>
          <a:xfrm>
            <a:off x="4968720" y="1285920"/>
            <a:ext cx="3851280" cy="4919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http://www.nisekoski.com.au/images/jap_map.jpg"/>
          <p:cNvPicPr/>
          <p:nvPr/>
        </p:nvPicPr>
        <p:blipFill>
          <a:blip r:embed="rId2"/>
          <a:stretch/>
        </p:blipFill>
        <p:spPr>
          <a:xfrm>
            <a:off x="595440" y="1371600"/>
            <a:ext cx="4260600" cy="4800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61" name="Content Placeholder 3" descr=""/>
          <p:cNvPicPr/>
          <p:nvPr/>
        </p:nvPicPr>
        <p:blipFill>
          <a:blip r:embed="rId1"/>
          <a:stretch/>
        </p:blipFill>
        <p:spPr>
          <a:xfrm>
            <a:off x="4968720" y="1285920"/>
            <a:ext cx="3851280" cy="4919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0" y="1295280"/>
            <a:ext cx="4952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aps Tell A Story – Canad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Unit 3, Topic 1: Overview of the United States and Canad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65" name="Picture 6" descr="Canada.PNG"/>
          <p:cNvPicPr/>
          <p:nvPr/>
        </p:nvPicPr>
        <p:blipFill>
          <a:blip r:embed="rId1"/>
          <a:stretch/>
        </p:blipFill>
        <p:spPr>
          <a:xfrm>
            <a:off x="2514600" y="1676520"/>
            <a:ext cx="6629400" cy="5181480"/>
          </a:xfrm>
          <a:prstGeom prst="rect">
            <a:avLst/>
          </a:prstGeom>
          <a:ln w="0">
            <a:noFill/>
          </a:ln>
        </p:spPr>
      </p:pic>
      <p:sp>
        <p:nvSpPr>
          <p:cNvPr id="166" name="Right Arrow 7"/>
          <p:cNvSpPr/>
          <p:nvPr/>
        </p:nvSpPr>
        <p:spPr>
          <a:xfrm>
            <a:off x="0" y="2590920"/>
            <a:ext cx="2514600" cy="320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Box 8"/>
          <p:cNvSpPr/>
          <p:nvPr/>
        </p:nvSpPr>
        <p:spPr>
          <a:xfrm>
            <a:off x="0" y="35053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ich Standards/Learning Targets would this activity addres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cebreaker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On a post-it note, write down some aspect of the geography of the Americas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It can be a landform, cultural element, aspect of government, etc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Do not show anyone!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ut the post-it on the back of another participan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You will be trying to guess what is on your back by asking YES/NO question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95" name="Picture 2" descr="C:\Users\sburns1\AppData\Local\Microsoft\Windows\Temporary Internet Files\Content.IE5\NTLGZ3YI\MC900441312[1].png"/>
          <p:cNvPicPr/>
          <p:nvPr/>
        </p:nvPicPr>
        <p:blipFill>
          <a:blip r:embed="rId1"/>
          <a:stretch/>
        </p:blipFill>
        <p:spPr>
          <a:xfrm>
            <a:off x="5487840" y="23814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69" name="Picture 2" descr="http://www.worldatlas.com/webimage/countrys/namerica/canewmapna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71" name="Picture 2" descr="http://www.map-of-canada.org/canada-map-7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73" name="Picture 2" descr="http://www.map-of-canada.org/canada-relief-map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75" name="Picture 2" descr="http://www.globalforestwatch.org/common/canada/map.1.jpg"/>
          <p:cNvPicPr/>
          <p:nvPr/>
        </p:nvPicPr>
        <p:blipFill>
          <a:blip r:embed="rId1"/>
          <a:stretch/>
        </p:blipFill>
        <p:spPr>
          <a:xfrm>
            <a:off x="228600" y="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77" name="Picture 4" descr="http://www.iti.gov.nt.ca/tourismparks/fmi/i/permafrost_map%5b1%5d.gif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79" name="Picture 2" descr="http://www12.statcan.ca/census-recensement/2006/as-sa/97-550/vignettes/img/map-2006-pop-density-canada-sz01-en.gif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81" name="Picture 2" descr="http://www.craigmarlatt.com/canada/images/images&amp;downloads/map_climate.jpg"/>
          <p:cNvPicPr/>
          <p:nvPr/>
        </p:nvPicPr>
        <p:blipFill>
          <a:blip r:embed="rId1"/>
          <a:stretch/>
        </p:blipFill>
        <p:spPr>
          <a:xfrm>
            <a:off x="0" y="0"/>
            <a:ext cx="902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83" name="Picture 2" descr="http://www.statcan.gc.ca/pub/16-002-x/2007001/map/Land-cover-map-of-Canada.gif"/>
          <p:cNvPicPr/>
          <p:nvPr/>
        </p:nvPicPr>
        <p:blipFill>
          <a:blip r:embed="rId1"/>
          <a:stretch/>
        </p:blipFill>
        <p:spPr>
          <a:xfrm>
            <a:off x="0" y="23760"/>
            <a:ext cx="914400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AutoShape 2"/>
          <p:cNvSpPr/>
          <p:nvPr/>
        </p:nvSpPr>
        <p:spPr>
          <a:xfrm>
            <a:off x="4386240" y="-888840"/>
            <a:ext cx="2495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4386240" y="-888840"/>
            <a:ext cx="2495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6" descr="http://www.canadamapxl.com/images/canada-road-map.gif"/>
          <p:cNvPicPr/>
          <p:nvPr/>
        </p:nvPicPr>
        <p:blipFill>
          <a:blip r:embed="rId1"/>
          <a:stretch/>
        </p:blipFill>
        <p:spPr>
          <a:xfrm>
            <a:off x="0" y="42840"/>
            <a:ext cx="9144000" cy="68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Development Pentagram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Standar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SS-06-4.1.1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udents will use a variety of geographic tools (maps, photographs, charts, graphs, databases, satellite images) to interpret patterns and locations on Earth’s surface in the present da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isual way to look at the development – specifically economic and social – of a country/reg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533520" y="243828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6705720" y="2666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Schoolbook"/>
              </a:rPr>
              <a:t>Agenda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Standards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1198440" indent="-514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KCAS 4.1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1198440" indent="-514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Curriculum Map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11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2. Instruction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11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3. Assessmen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11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4. Collaboration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11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3 Levels of Developmen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.  Underdeveloped (Third World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ountries that share common characteristics such as widespread poverty, high birth rates/population growth, high infant mortality rate, low GNP and depend on other countries for surviva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2.  Developin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 country still trying to acquire the standard of living enjoyed by citizens in a developed country but still have underdeveloped characteristic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3.  Developed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 country whose citizens enjoy high incomes, an abundance of food, comfortable housing, stable population, technology, medicine, etc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5 Factors that influence a country’s level of developmen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.  TFR (Total Fertility Rate – number of children a woman will have at current rates (2.1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2.  IMR (Infant Mortality Rate) – number of infants &lt;1yr who will die per 1000 live birth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3.  %U – percent of people living in an urban environmen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4.  GNP/C – (Gross National Product per capita) – estimate of the total value of goods and services produced in an country in a given yea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er capita means divided by the populatio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ost common measure of the level of activity at a national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5.  LR (Literacy Rate) - % of adults who can read or writ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Data Set for North Americ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042920" y="1305000"/>
          <a:ext cx="7705800" cy="1863720"/>
        </p:xfrm>
        <a:graphic>
          <a:graphicData uri="http://schemas.openxmlformats.org/drawingml/2006/table">
            <a:tbl>
              <a:tblPr/>
              <a:tblGrid>
                <a:gridCol w="1284480"/>
                <a:gridCol w="1284120"/>
                <a:gridCol w="1284480"/>
                <a:gridCol w="1284120"/>
                <a:gridCol w="1284480"/>
                <a:gridCol w="1284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IM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TF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L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%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GDP/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United Sta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.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.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$48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n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.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$40,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ex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6.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.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$15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196" name="TextBox 4"/>
          <p:cNvSpPr/>
          <p:nvPr/>
        </p:nvSpPr>
        <p:spPr>
          <a:xfrm>
            <a:off x="1066680" y="37339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plotting data on grid, students will determine what level of development they think each country has achie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, have a discussion as to the reasons why they are at this level of develop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98" name="Picture 4" descr="08-02-~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Where can I find data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IA World Factbook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ttps://www.cia.gov/library/publications/the-world-factbook/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01" name="Picture 3" descr="CIA.jpg"/>
          <p:cNvPicPr/>
          <p:nvPr/>
        </p:nvPicPr>
        <p:blipFill>
          <a:blip r:embed="rId1"/>
          <a:stretch/>
        </p:blipFill>
        <p:spPr>
          <a:xfrm>
            <a:off x="2971800" y="2362320"/>
            <a:ext cx="312912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ASSESSMEN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ocial Studies Proficiency Assessment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Two benchmark assessments from the district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One in October (tentatively set for 10/22-11/2)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One in February (Tentatively 2/11-2/22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Teachers are encouraged to use daily formative and summative assessments in classroom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May or may not be using CASCADE, no decisions have been made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Make-up and structure of test has not been determined at this point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It is still the principal’s decision on when and how to use the district assessments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06" name="Picture 2" descr="C:\Users\sburns1\AppData\Local\Microsoft\Windows\Temporary Internet Files\Content.IE5\G05KPL49\MC900442128[1].png"/>
          <p:cNvPicPr/>
          <p:nvPr/>
        </p:nvPicPr>
        <p:blipFill>
          <a:blip r:embed="rId1"/>
          <a:stretch/>
        </p:blipFill>
        <p:spPr>
          <a:xfrm>
            <a:off x="5459400" y="2352600"/>
            <a:ext cx="280044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rmative Assessmen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entury Schoolbook"/>
              </a:rPr>
              <a:t>25 Quick Formative Assessments for a Differentiated Classroom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i="1" lang="en-US" sz="1600" spc="-1" strike="noStrike">
                <a:solidFill>
                  <a:srgbClr val="000000"/>
                </a:solidFill>
                <a:latin typeface="Century Schoolbook"/>
              </a:rPr>
              <a:t>ISBN 978-0-545-08742-1 (Amazon, $14.27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4 Categories of Formative Assessment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Summaries and Reflection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Lists, Charts, and Graphic Organizer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Visual Representations of Informatio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Collaborative Activiti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Formative assessments should vary in format and address a variety of learning style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3-2-1 Summarizer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(Summaries &amp; Reflections)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At the end of a lesson, students record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3 Facts they’ve learn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2 questions they have or wonder abou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1 personal connection they can make to the information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10" name="Content Placeholder 5" descr="3-2-1 Summarizer.PNG"/>
          <p:cNvPicPr/>
          <p:nvPr/>
        </p:nvPicPr>
        <p:blipFill>
          <a:blip r:embed="rId1"/>
          <a:stretch/>
        </p:blipFill>
        <p:spPr>
          <a:xfrm>
            <a:off x="2514600" y="1176480"/>
            <a:ext cx="4419720" cy="55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Noting What I’ve Learned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(Lists, Charts, and Graphic Organizers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Utilizes the best elements of Cornell note-taking strategy.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12" name="Content Placeholder 5" descr="Noting what I've learned.PNG"/>
          <p:cNvPicPr/>
          <p:nvPr/>
        </p:nvPicPr>
        <p:blipFill>
          <a:blip r:embed="rId1"/>
          <a:stretch/>
        </p:blipFill>
        <p:spPr>
          <a:xfrm>
            <a:off x="2666880" y="1371600"/>
            <a:ext cx="3981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Session Learning Targets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I can plan engaging lessons using KCAS 4.1 Social Studies Standards for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entury Schoolbook"/>
                <a:ea typeface="GungsuhChe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 grading period</a:t>
            </a:r>
            <a:r>
              <a:rPr b="0" lang="en-US" sz="3200" spc="-1" strike="noStrike">
                <a:solidFill>
                  <a:srgbClr val="000000"/>
                </a:solidFill>
                <a:latin typeface="GungsuhChe"/>
                <a:ea typeface="GungsuhChe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I can identify and develop formative and summative assessments to assess student learning in social studie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ungsuhCh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ungsuhCh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457200" y="297180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Photo Finish </a:t>
            </a: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(Visual Representations of Information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Students create a series of snapshot images that capture the essence of a topic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14" name="Content Placeholder 3" descr="photo finish.PNG"/>
          <p:cNvPicPr/>
          <p:nvPr/>
        </p:nvPicPr>
        <p:blipFill>
          <a:blip r:embed="rId1"/>
          <a:stretch/>
        </p:blipFill>
        <p:spPr>
          <a:xfrm>
            <a:off x="1523880" y="1295280"/>
            <a:ext cx="6248520" cy="48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Headline News! Summary </a:t>
            </a: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(Collaborative Activities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Asks students to sum up the essence of a lesson by creating newspaper headlines and delivering a brief news summary as an innovative way to involve them in making meaning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16" name="Content Placeholder 3" descr="Headline News!.PNG"/>
          <p:cNvPicPr/>
          <p:nvPr/>
        </p:nvPicPr>
        <p:blipFill>
          <a:blip r:embed="rId1"/>
          <a:stretch/>
        </p:blipFill>
        <p:spPr>
          <a:xfrm>
            <a:off x="2438280" y="1144440"/>
            <a:ext cx="443232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STANDARD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5"/>
          <p:cNvSpPr/>
          <p:nvPr/>
        </p:nvSpPr>
        <p:spPr>
          <a:xfrm>
            <a:off x="5775480" y="2631960"/>
            <a:ext cx="138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410080" y="3505320"/>
            <a:ext cx="26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KCAS 4.1 Social Studi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08" name="Content Placeholder 3" descr="KY goals.JPG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KCAS 4.1 Social Studies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10" name="Content Placeholder 5" descr="subdomains &amp; organizers.JPG"/>
          <p:cNvPicPr/>
          <p:nvPr/>
        </p:nvPicPr>
        <p:blipFill>
          <a:blip r:embed="rId1"/>
          <a:stretch/>
        </p:blipFill>
        <p:spPr>
          <a:xfrm>
            <a:off x="0" y="1487520"/>
            <a:ext cx="914400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urriculum vs. Curriculum Map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Curriculum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State law requires teachers to teach all the standards outlined in KCAS 4.1 Program of Studies for their subject/grad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For social studies, standards are organized by “big ideas”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Government and Civic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Cultures and Societi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Economic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Geograph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Historical Perspectiv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97160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Curriculum Map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JCPS’ organization/articulation of KCAS 4.1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It is strongly recommended that teachers use/follow the maps to ensure that all standards are addressed adequatel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GungsuhChe"/>
              </a:rPr>
              <a:t>MAPS ARE NOT BASED ON A PARTICULAR TEXTBOOK OR PROGRAM – IT IS BASED ON STANDARD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Text Box 1029"/>
          <p:cNvSpPr/>
          <p:nvPr/>
        </p:nvSpPr>
        <p:spPr>
          <a:xfrm>
            <a:off x="5867280" y="304812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1T12:40:27Z</dcterms:created>
  <dc:creator>gilmore</dc:creator>
  <dc:description/>
  <dc:language>en-US</dc:language>
  <cp:lastModifiedBy>gilmore</cp:lastModifiedBy>
  <dcterms:modified xsi:type="dcterms:W3CDTF">2012-06-22T17:49:03Z</dcterms:modified>
  <cp:revision>50</cp:revision>
  <dc:subject/>
  <dc:title>Grade 6: Standards, Instruction, and Assessment Over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711033</vt:lpwstr>
  </property>
</Properties>
</file>